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49E2-EDD2-4017-A29B-13DEC6492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3A61-6BE8-4EF9-AC50-755E79FD6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58B-F2F9-4EBA-9DBD-532E7AB9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05F-632B-40EC-B98E-E3BC0F13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FB0-2D82-4224-B7A0-4DFB1E65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316-F356-407E-9D8A-5619E913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9DF-D995-4A90-8BB9-1958D428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AC6-C847-4028-9297-2825145D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5A2-E3CA-4DA0-B43B-63F5C35B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851-74A9-49C0-B424-147F3654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897-0A35-44CD-8AA6-8B2291D2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A6E-2F3A-4B81-BE05-DB91CF91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65C-0F20-4C0C-B253-47D1698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CF6-51BD-483E-9656-DA61C7BF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F36-3890-44CB-BAC5-C70EBE2C8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heep meat value chain in Menz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9480" y="4191120"/>
            <a:ext cx="8077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by Aschalew Tsegahun (Ethiopian Institute of Agricultural Research) at the Inception meeting for the ‘Fodder and feed in livestock value chains in Ethiopia’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RI, Addis Ababa, 21-22 February 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Problems of sheep 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ternal &amp; external parasi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rregular vaccination program, unavailability and high cost of veterinary drugs and chemical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adequate animal health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easonality of domestic market for live anim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ng distance trekking before slaugh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1. Possible solutions for improving sheep p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duction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Develop appropriate breeding program for smallholder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mproved productive management &amp; culling unproductive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mproved feeding system using available resou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Encourage commercial farmers in forage seed production, feed processing &amp;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1. Possible solutions for improving sheep p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duction in Menz woreda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livestock extension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linkage between livestock production &amp; marke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engthen livestock health service &amp; para-vet trai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mprove access to inputs (breeding animals, feed, vet suppli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. Inputs &amp; services for sheep p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atural mating; improved rams supplied by 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oA supply drugs and medic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rugs also sold (illegally) in open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y &amp; crop residues main feeds traded among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gric. industrial by-products only sold in towns by traders (by-products of pulse, oil seed cake, molas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Problems of input supply for sheep production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upply of breeding rams does not meet demand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Unavailability &amp;/or high cost of agro-industrial by-products &amp; drug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Low quality of hay &amp; crop resid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Feed market prices not based weight but on volu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sible solutions for improving input supplies in Menz wore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sign community-based integrated strategy for productivity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ublic commitment to develop feed resou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corporate feed development within the present huge soil conservation mobilization progra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crease efficiency of AI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stocking of drugs and medicaments tim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 market actors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4"/>
          <p:cNvSpPr/>
          <p:nvPr/>
        </p:nvSpPr>
        <p:spPr>
          <a:xfrm>
            <a:off x="2971800" y="1066680"/>
            <a:ext cx="373392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5"/>
          <p:cNvSpPr/>
          <p:nvPr/>
        </p:nvSpPr>
        <p:spPr>
          <a:xfrm>
            <a:off x="533520" y="3429000"/>
            <a:ext cx="1981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886200" y="3124080"/>
            <a:ext cx="24382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dle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7"/>
          <p:cNvSpPr/>
          <p:nvPr/>
        </p:nvSpPr>
        <p:spPr>
          <a:xfrm>
            <a:off x="3200400" y="5029200"/>
            <a:ext cx="3276720" cy="99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Straight Arrow Connector 15"/>
          <p:cNvCxnSpPr/>
          <p:nvPr/>
        </p:nvCxnSpPr>
        <p:spPr>
          <a:xfrm>
            <a:off x="2362320" y="4419360"/>
            <a:ext cx="83880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19"/>
          <p:cNvCxnSpPr/>
          <p:nvPr/>
        </p:nvCxnSpPr>
        <p:spPr>
          <a:xfrm flipH="1">
            <a:off x="4874400" y="2363400"/>
            <a:ext cx="39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 flipH="1">
            <a:off x="4722120" y="4040280"/>
            <a:ext cx="396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32"/>
          <p:cNvCxnSpPr/>
          <p:nvPr/>
        </p:nvCxnSpPr>
        <p:spPr>
          <a:xfrm flipH="1">
            <a:off x="2590560" y="3657600"/>
            <a:ext cx="12196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36"/>
          <p:cNvCxnSpPr/>
          <p:nvPr/>
        </p:nvCxnSpPr>
        <p:spPr>
          <a:xfrm flipH="1">
            <a:off x="2056680" y="2133720"/>
            <a:ext cx="106740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tangle 42"/>
          <p:cNvSpPr/>
          <p:nvPr/>
        </p:nvSpPr>
        <p:spPr>
          <a:xfrm>
            <a:off x="838080" y="6172200"/>
            <a:ext cx="8077320" cy="68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rketing channel for live sheep mark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rc 47"/>
          <p:cNvSpPr/>
          <p:nvPr/>
        </p:nvSpPr>
        <p:spPr>
          <a:xfrm>
            <a:off x="5791320" y="2057400"/>
            <a:ext cx="1752480" cy="3352680"/>
          </a:xfrm>
          <a:custGeom>
            <a:avLst/>
            <a:gdLst/>
            <a:ahLst/>
            <a:rect l="l" t="t" r="r" b="b"/>
            <a:pathLst>
              <a:path stroke="0" w="1752600" h="3352800">
                <a:moveTo>
                  <a:pt x="876300" y="0"/>
                </a:moveTo>
                <a:cubicBezTo>
                  <a:pt x="1264798" y="0"/>
                  <a:pt x="1606919" y="489345"/>
                  <a:pt x="1716812" y="1202205"/>
                </a:cubicBezTo>
                <a:cubicBezTo>
                  <a:pt x="1766144" y="1522214"/>
                  <a:pt x="1764440" y="1863105"/>
                  <a:pt x="1711919" y="2181251"/>
                </a:cubicBezTo>
                <a:cubicBezTo>
                  <a:pt x="1591210" y="2912446"/>
                  <a:pt x="1226555" y="3393757"/>
                  <a:pt x="826382" y="3350077"/>
                </a:cubicBezTo>
                <a:lnTo>
                  <a:pt x="876300" y="1676400"/>
                </a:lnTo>
                <a:lnTo>
                  <a:pt x="876300" y="0"/>
                </a:lnTo>
                <a:close/>
              </a:path>
              <a:path fill="none" w="1752600" h="3352800">
                <a:moveTo>
                  <a:pt x="876300" y="0"/>
                </a:moveTo>
                <a:cubicBezTo>
                  <a:pt x="1264798" y="0"/>
                  <a:pt x="1606919" y="489345"/>
                  <a:pt x="1716812" y="1202205"/>
                </a:cubicBezTo>
                <a:cubicBezTo>
                  <a:pt x="1766144" y="1522214"/>
                  <a:pt x="1764440" y="1863105"/>
                  <a:pt x="1711919" y="2181251"/>
                </a:cubicBezTo>
                <a:cubicBezTo>
                  <a:pt x="1591210" y="2912446"/>
                  <a:pt x="1226555" y="3393757"/>
                  <a:pt x="826382" y="3350077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Sheep marketing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rmers sell their sheep directly to consumers or middlemen traders on a per-head b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equently arrive at market without a firm idea of the price they will receive, or prices in other markets; mostly engage in long negoti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Sheep marketing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raders have much better information and are thereby in stronger negotiating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raders are vehicles by which price signals are transmitted from one market to anoth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 agency monitors sheep pr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Improving sheep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mprove road conditions &amp; transport facil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ovide farmers with information to increase bargaining power and ability to make good marketing deci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rganize marketing system with transparent linkages between producers &amp; tra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Overview of value chain and    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p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2. Input supplies and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3.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Improving sheep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rm/strengthen agricultural cooperative marketing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ablish small-scale processing pl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ndard product &amp; pricing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Overview of sheep value chain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70c0"/>
                </a:solidFill>
                <a:latin typeface="Calibri"/>
              </a:rPr>
              <a:t>Sheep major component  of crop-livestock livelihood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assified as Menz type, well adapted to the area and the extensive natural grazing syste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nly sick/fattening sheep usually receive  supplements; hay, crop residues, grain (grass pea), and weed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Overview of sheep value chain in Menz wore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armers also keep large ruminants, poultry and pack animals (no specializa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row barley, wheat and horse bean as subsistence cro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heep production for slaughter and marketing through bargai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ed production overview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atural grasslands (grazing and hay) primary feed; some crop residues; negligible planted forag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seasonal influence on feed quantity/quality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razing land communal; every community member has the right to utilize the resource; no restriction on number or kind of livestoc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ed produc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y and crop residues produced/conserved individually; also buy from market or neighb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unal grazing denuded &amp; overgrazed: reduced plant vigor, less productive and unpalatabl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cently grazing lands are being divided among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ed production overvi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st of purchased fodders vary by season, load and distance from market; price set by bargai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 commercial farmer producing/selling f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towns a few individuals sell concentrates and oil seed cakes (D/B &amp; A.A. the sourc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at (</a:t>
            </a:r>
            <a:r>
              <a:rPr b="0" i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vena sativa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 in demand as food-feed cr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Problems facing sheep 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eed scarcity: shortage of grazing land/infertile soils, seasonal fluctuation &amp; low quality, limited supple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der-nutrition results in poor reproductive performance and slow growth rates; delayed mark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Problems facing sheep 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availability of agro- industrial by products &amp;/or high co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ck of forage seeds for dissem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controlled mating and sale of best rams before reproductive matur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2:06:05Z</dcterms:created>
  <dc:creator>Aschalew Tsegahun</dc:creator>
  <dc:description/>
  <dc:language>en-US</dc:language>
  <cp:lastModifiedBy>Kara Brown</cp:lastModifiedBy>
  <dcterms:modified xsi:type="dcterms:W3CDTF">2012-02-21T15:22:43Z</dcterms:modified>
  <cp:revision>114</cp:revision>
  <dc:subject/>
  <dc:title>Feed development and its constraints in North Shoa  Overview  </dc:title>
</cp:coreProperties>
</file>